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989-C424-4F3F-AD35-342FE7F8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ABF-6D67-4C71-AFD0-173CAA8B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D2E-13A0-4D95-AC2F-75B7210E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ED3-6D38-4175-B443-CF15E082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6B9-9154-4A6C-B385-241FE654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0F8-02F6-4565-8E24-C56FDF39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3BA-8D81-42B2-BDE7-FB02EE17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7D5-9B36-4385-88A0-E0B0D9AC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BBB-9778-43E8-97BB-B6B2C8F8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2E3-C053-4B4C-8AB6-B4D16D6D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92D-892E-47ED-8050-F4681C8A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472-76FA-483C-999D-B99674D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2DC7-7066-4A72-9E1C-87168464A6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61000" y="533520"/>
            <a:ext cx="497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功能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2321640" y="167544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1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数据传送指令实现电动机的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Y-△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降压启动控制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2050200" y="220860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跳转指令实现选择运行程序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2120" y="274212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算术运算指令与单按钮的功率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3240" y="32756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字逻辑运算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3240" y="38088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子程序调用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7840" y="42660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200" y="472320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7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比较指令的应用与时钟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7840" y="56376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9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数码显示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41320" y="51804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移位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1200" y="851760"/>
            <a:ext cx="40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0" lang="zh-CN" sz="1800" spc="-1" strike="noStrike">
                <a:solidFill>
                  <a:srgbClr val="000000"/>
                </a:solidFill>
                <a:latin typeface="Times New Roman MT Extra Bold"/>
                <a:ea typeface="Times New Roman MT Extra Bold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 MT Extra Bold"/>
                <a:ea typeface="黑体"/>
              </a:rPr>
              <a:t>降压启动过程和传送控制数据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676520"/>
          <a:ext cx="9144000" cy="3078000"/>
        </p:xfrm>
        <a:graphic>
          <a:graphicData uri="http://schemas.openxmlformats.org/drawingml/2006/table">
            <a:tbl>
              <a:tblPr/>
              <a:tblGrid>
                <a:gridCol w="1179360"/>
                <a:gridCol w="1509840"/>
                <a:gridCol w="965160"/>
                <a:gridCol w="1119240"/>
                <a:gridCol w="1066680"/>
                <a:gridCol w="1067040"/>
                <a:gridCol w="977760"/>
                <a:gridCol w="12589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端口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负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3/KM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2/K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1/K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0/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形启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△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形运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57848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0" y="396180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  Y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降压启动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69608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2811960" y="30384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跳转指令实现选择运行程序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4768" t="0" r="0" b="0"/>
          <a:stretch/>
        </p:blipFill>
        <p:spPr>
          <a:xfrm>
            <a:off x="380880" y="1066680"/>
            <a:ext cx="390528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440" y="58665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手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动程序跳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773800"/>
            <a:ext cx="31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应用跳转指令的程序结构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手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动选择开关的信号输入端。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未接通时，执行手动程序段，反之执行自动程序段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闭接点起联锁作用，使手动、自动两个程序段只能选择其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447920"/>
          <a:ext cx="9144000" cy="1004760"/>
        </p:xfrm>
        <a:graphic>
          <a:graphicData uri="http://schemas.openxmlformats.org/drawingml/2006/table">
            <a:tbl>
              <a:tblPr/>
              <a:tblGrid>
                <a:gridCol w="1170000"/>
                <a:gridCol w="2467080"/>
                <a:gridCol w="2822400"/>
                <a:gridCol w="26845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条件跳转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0      C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示跳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J      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175200" y="213120"/>
            <a:ext cx="266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条件跳转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3000" y="990000"/>
            <a:ext cx="31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61080"/>
            <a:ext cx="861048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标号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1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用于分支和跳转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放置在左母线的左边，一个标号只能出现一次，如出现两次或两次以上，程序报错。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一步步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跳转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如果跳转条件满足，则执行跳转指令，程序跳到以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入口的程序段中执行。否则不执行跳转指令，按顺序执行下一条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跳转指令可以使用同一个标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如果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为控制跳转的条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则变成无条件跳转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495680" cy="417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05520" y="137880"/>
            <a:ext cx="2931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2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条件跳转指令应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139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台设备具有手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动两种操作方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操作方式选择开关，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断开状态时，选择手动操作方式；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接通状态时，选择自动操作方式，不同操作方式进程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手动操作方式进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按启动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运转；按停止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停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自动操作方式进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按启动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连续运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，自动停机。按停止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立即停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01360" y="6095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334120" cy="487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53680" y="365760"/>
            <a:ext cx="37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根据控制要求，设计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29920" y="6095160"/>
            <a:ext cx="23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4674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69320" y="30384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算术运算指令与单按钮的功率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905120"/>
          <a:ext cx="9144000" cy="1095120"/>
        </p:xfrm>
        <a:graphic>
          <a:graphicData uri="http://schemas.openxmlformats.org/drawingml/2006/table">
            <a:tbl>
              <a:tblPr/>
              <a:tblGrid>
                <a:gridCol w="839880"/>
                <a:gridCol w="1415880"/>
                <a:gridCol w="1249560"/>
                <a:gridCol w="5638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052440" y="747360"/>
            <a:ext cx="2565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加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7040" y="144720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039200"/>
            <a:ext cx="86104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加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D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若相加结果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 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来判断两个数是否为相反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法指令可以进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操作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5766"/>
          <a:stretch/>
        </p:blipFill>
        <p:spPr>
          <a:xfrm>
            <a:off x="457200" y="2490840"/>
            <a:ext cx="8381880" cy="2843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87000" y="548568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  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加法指令操作数的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0666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ADD   D0   D10   D2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操作数构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被加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；加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；“和”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03760" y="227880"/>
            <a:ext cx="2109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D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4038840" cy="1795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6920" y="2894760"/>
            <a:ext cx="27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267440" cy="3124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88920" y="4876200"/>
            <a:ext cx="27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52280" y="4038480"/>
            <a:ext cx="4496040" cy="1284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15040" y="5485680"/>
            <a:ext cx="29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1952640"/>
          <a:ext cx="9145440" cy="1095480"/>
        </p:xfrm>
        <a:graphic>
          <a:graphicData uri="http://schemas.openxmlformats.org/drawingml/2006/table">
            <a:tbl>
              <a:tblPr/>
              <a:tblGrid>
                <a:gridCol w="838080"/>
                <a:gridCol w="1306800"/>
                <a:gridCol w="1284120"/>
                <a:gridCol w="57164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80680" y="518040"/>
            <a:ext cx="2548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减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29320" y="138528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000" y="3458160"/>
            <a:ext cx="8785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减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减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若相减结果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则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 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来判断两个数是否相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进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操作方式，例如指令语句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SUB    D0   D10   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245320" y="37980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1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数据传送指令实现电动机的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Y-△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降压启动控制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1000" y="747360"/>
            <a:ext cx="238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元件与字元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39520" y="1340640"/>
            <a:ext cx="6017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元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具有接通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或断开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种状态的元件称为位元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16560" y="2102760"/>
            <a:ext cx="5288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元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元件是位元件的有序集合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字元件最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最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77880" y="304740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元件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3429000"/>
          <a:ext cx="9144000" cy="3014640"/>
        </p:xfrm>
        <a:graphic>
          <a:graphicData uri="http://schemas.openxmlformats.org/drawingml/2006/table">
            <a:tbl>
              <a:tblPr/>
              <a:tblGrid>
                <a:gridCol w="2335320"/>
                <a:gridCol w="68086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符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继电器位元件组合的字元件，也称为输入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继电器位元件组合的字元件，也称为输出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辅助继电器位元件组合的字元件，也称为辅助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继电器位元件组合的字元件，也称为状态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当前值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当前值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据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变址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761040"/>
            <a:ext cx="83059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减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数据寄存器中存储的数据相减，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减法指令，减法运算的结果差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−2 = 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存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715000" cy="35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29920" y="5866560"/>
            <a:ext cx="25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减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79600" y="105840"/>
            <a:ext cx="2567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乘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29320" y="6087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0" y="1066680"/>
          <a:ext cx="9142560" cy="1005120"/>
        </p:xfrm>
        <a:graphic>
          <a:graphicData uri="http://schemas.openxmlformats.org/drawingml/2006/table">
            <a:tbl>
              <a:tblPr/>
              <a:tblGrid>
                <a:gridCol w="1063800"/>
                <a:gridCol w="1495440"/>
                <a:gridCol w="1334880"/>
                <a:gridCol w="52484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乘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416960" y="2208960"/>
            <a:ext cx="62701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乘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U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乘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乘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4087800"/>
            <a:ext cx="7848360" cy="223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42840" y="6338160"/>
            <a:ext cx="27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乘法的积占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2760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如乘法指令语句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   D0  D10  D20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被乘数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乘数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积则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件中。操作数结构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608760"/>
            <a:ext cx="86104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乘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U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乘法指令，乘法运算的结果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×2 = 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标操作数中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的数据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的数据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5333760" cy="4100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629400" y="540972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乘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440" y="1876320"/>
          <a:ext cx="9142560" cy="1095480"/>
        </p:xfrm>
        <a:graphic>
          <a:graphicData uri="http://schemas.openxmlformats.org/drawingml/2006/table">
            <a:tbl>
              <a:tblPr/>
              <a:tblGrid>
                <a:gridCol w="887400"/>
                <a:gridCol w="1204920"/>
                <a:gridCol w="1335240"/>
                <a:gridCol w="5715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除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355920" y="639360"/>
            <a:ext cx="2414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除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29320" y="138528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534480"/>
            <a:ext cx="83818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除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IV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除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除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除法运算的结果商存储在目标操作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余数存储在目标操作数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50900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除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但目标操作数却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除法运算的结果商存储在目标操作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余数存储在目标操作数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1035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除法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V  D0  D10  D2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被除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除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商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余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操作数的结构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458200" cy="2544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346840" y="5180760"/>
            <a:ext cx="38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8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除法的商和余数构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目标操作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142280"/>
            <a:ext cx="83059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除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IV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除法指令。除法运算结果的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余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可以看出，数据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根据余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判断数据的奇偶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5181840" cy="3967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49080" y="54856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除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1600200"/>
          <a:ext cx="9144000" cy="1095480"/>
        </p:xfrm>
        <a:graphic>
          <a:graphicData uri="http://schemas.openxmlformats.org/drawingml/2006/table">
            <a:tbl>
              <a:tblPr/>
              <a:tblGrid>
                <a:gridCol w="885960"/>
                <a:gridCol w="1784160"/>
                <a:gridCol w="1544760"/>
                <a:gridCol w="49291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145320" y="456120"/>
            <a:ext cx="2563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29320" y="1142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064680"/>
            <a:ext cx="82296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执行结果不影响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实际控制中通常不使用每个扫描周期目标操作数都要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连续执行方式，所以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经常使用脉冲操作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减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E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和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执行方式相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837360"/>
            <a:ext cx="83818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开机初始脉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数据寄存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的那个扫描周期执行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数据被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存储，即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+1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图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接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存储的数据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增加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162920" cy="3100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53520" y="6095160"/>
            <a:ext cx="25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309480" y="289440"/>
            <a:ext cx="384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单按钮的功率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989640"/>
            <a:ext cx="8839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的功率控制线路和控制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的功率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控制要求是：加热功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挡位可调，大小分别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功率选择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停止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第一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功率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挡，第二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功率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挡……第八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停止加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6248520" cy="3903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10280" y="4816080"/>
            <a:ext cx="18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的功率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1981080"/>
          <a:ext cx="9144000" cy="4016160"/>
        </p:xfrm>
        <a:graphic>
          <a:graphicData uri="http://schemas.openxmlformats.org/drawingml/2006/table">
            <a:tbl>
              <a:tblPr/>
              <a:tblGrid>
                <a:gridCol w="1789200"/>
                <a:gridCol w="1347840"/>
                <a:gridCol w="1349280"/>
                <a:gridCol w="1347840"/>
                <a:gridCol w="1350720"/>
                <a:gridCol w="195912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功率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元件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1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按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SB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1065240" y="106596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功率控制的工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6920" y="15231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功率控制的工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666880"/>
          <a:ext cx="9144000" cy="3259080"/>
        </p:xfrm>
        <a:graphic>
          <a:graphicData uri="http://schemas.openxmlformats.org/drawingml/2006/table">
            <a:tbl>
              <a:tblPr/>
              <a:tblGrid>
                <a:gridCol w="1660680"/>
                <a:gridCol w="1596960"/>
                <a:gridCol w="1251000"/>
                <a:gridCol w="2833560"/>
                <a:gridCol w="1801800"/>
              </a:tblGrid>
              <a:tr h="560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适用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n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包含的位元件最高位～最低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位元件个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适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适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2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4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只能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5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6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8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28600" y="7606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组件。多个位元件按一定规律的组合叫位组件，例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十进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组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取值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每组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位元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输出位组件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全部组合及适用指令范围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72120" y="198036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全部组合及适用指令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93840" y="746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的功率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05360" cy="4554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69160" y="60951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的功率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2468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93600" y="3798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字逻辑运算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2257560"/>
          <a:ext cx="9144000" cy="1095120"/>
        </p:xfrm>
        <a:graphic>
          <a:graphicData uri="http://schemas.openxmlformats.org/drawingml/2006/table">
            <a:tbl>
              <a:tblPr/>
              <a:tblGrid>
                <a:gridCol w="797040"/>
                <a:gridCol w="1407960"/>
                <a:gridCol w="1300320"/>
                <a:gridCol w="5638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与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354400" y="1051560"/>
            <a:ext cx="3490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与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8080" y="17661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A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039200"/>
            <a:ext cx="84582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与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作相“与”逻辑运算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“与”逻辑运算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字“与”指令的功能是将两个源操作数的数据，进行二进制按位相“与”，并将运算结果存入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532440"/>
            <a:ext cx="85341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与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假设要求用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去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控制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对字元件多余的控制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“与”进行屏蔽。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1719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65040" y="358056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与”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4343400" cy="2676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701320" y="61714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与”指令的位运算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0" y="1676520"/>
          <a:ext cx="9145440" cy="1095120"/>
        </p:xfrm>
        <a:graphic>
          <a:graphicData uri="http://schemas.openxmlformats.org/drawingml/2006/table">
            <a:tbl>
              <a:tblPr/>
              <a:tblGrid>
                <a:gridCol w="744480"/>
                <a:gridCol w="1409760"/>
                <a:gridCol w="1274760"/>
                <a:gridCol w="57164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或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962080" y="365760"/>
            <a:ext cx="328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28960" y="1218600"/>
            <a:ext cx="32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3504240"/>
            <a:ext cx="85345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．字“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W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两个相“或”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存储“或”逻辑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的功能是将两个源操作数的数据，进行二进制按位相“或”，并将运算结果存入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33600" y="29894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03840"/>
            <a:ext cx="86104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用输入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控制由输出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不受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控制而始终处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。可用字“或”指令屏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410080" cy="1630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0526" descr=""/>
          <p:cNvPicPr/>
          <p:nvPr/>
        </p:nvPicPr>
        <p:blipFill>
          <a:blip r:embed="rId2"/>
          <a:stretch/>
        </p:blipFill>
        <p:spPr>
          <a:xfrm>
            <a:off x="228600" y="3838680"/>
            <a:ext cx="4800600" cy="2943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01320" y="609516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或”指令的位运算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72840" y="324576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或”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1724040"/>
          <a:ext cx="9144000" cy="1095480"/>
        </p:xfrm>
        <a:graphic>
          <a:graphicData uri="http://schemas.openxmlformats.org/drawingml/2006/table">
            <a:tbl>
              <a:tblPr/>
              <a:tblGrid>
                <a:gridCol w="938160"/>
                <a:gridCol w="1195560"/>
                <a:gridCol w="1295280"/>
                <a:gridCol w="5715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异或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3024000" y="258480"/>
            <a:ext cx="3675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异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05280" y="1232640"/>
            <a:ext cx="33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X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442320"/>
            <a:ext cx="85341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异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两个相“异或”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“异或”逻辑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的功能是将两个源操作数的数据，进行二进制按位相“异或”，并将运算结果存入目标操作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456480"/>
            <a:ext cx="85345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异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用输入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反状态去控制由输出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应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应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867280" cy="1765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04920" y="3798720"/>
            <a:ext cx="4800600" cy="2830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274560" y="3245760"/>
            <a:ext cx="25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异或”指令的程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86360" y="548568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异或”指令运算过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58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7493"/>
                </a:moveTo>
                <a:lnTo>
                  <a:pt x="11601" y="7493"/>
                </a:lnTo>
                <a:lnTo>
                  <a:pt x="11601" y="12828"/>
                </a:lnTo>
                <a:cubicBezTo>
                  <a:pt x="11601" y="13751"/>
                  <a:pt x="12401" y="14482"/>
                  <a:pt x="13437" y="14482"/>
                </a:cubicBezTo>
                <a:lnTo>
                  <a:pt x="15100" y="14482"/>
                </a:lnTo>
                <a:cubicBezTo>
                  <a:pt x="16135" y="14482"/>
                  <a:pt x="16936" y="13751"/>
                  <a:pt x="16936" y="12828"/>
                </a:cubicBezTo>
                <a:lnTo>
                  <a:pt x="16936" y="7493"/>
                </a:lnTo>
                <a:lnTo>
                  <a:pt x="15100" y="7493"/>
                </a:lnTo>
                <a:lnTo>
                  <a:pt x="18607" y="3985"/>
                </a:lnTo>
                <a:lnTo>
                  <a:pt x="22280" y="7493"/>
                </a:lnTo>
                <a:lnTo>
                  <a:pt x="20444" y="7493"/>
                </a:lnTo>
                <a:lnTo>
                  <a:pt x="20444" y="12828"/>
                </a:lnTo>
                <a:cubicBezTo>
                  <a:pt x="20444" y="15596"/>
                  <a:pt x="17867" y="18155"/>
                  <a:pt x="15100" y="18155"/>
                </a:cubicBezTo>
                <a:lnTo>
                  <a:pt x="13437" y="18155"/>
                </a:lnTo>
                <a:cubicBezTo>
                  <a:pt x="10669" y="18155"/>
                  <a:pt x="8093" y="15596"/>
                  <a:pt x="80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69920" y="3038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子程序调用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096240" cy="5092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16520" y="62478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与返回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1523880"/>
          <a:ext cx="9144000" cy="1735200"/>
        </p:xfrm>
        <a:graphic>
          <a:graphicData uri="http://schemas.openxmlformats.org/drawingml/2006/table">
            <a:tbl>
              <a:tblPr/>
              <a:tblGrid>
                <a:gridCol w="1523880"/>
                <a:gridCol w="2667240"/>
                <a:gridCol w="2666880"/>
                <a:gridCol w="2286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  序  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   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L   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    S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T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6    F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ND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489680" y="334440"/>
            <a:ext cx="6434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5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子程序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ALL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RE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与主程序结束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F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03360" y="1065960"/>
            <a:ext cx="41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91716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表示主程序结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指整个程序（包括主程序和子程序）结束。一个完整的程序可以没有子程序，但一定要有主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编写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后面，以标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头，以返回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子程序调用条件满足，则中断主程序去执行子程序，标号是被调用子程序的入口地址。在子程序结束处一定要使用返回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意思是返回主程序中断处去继续执行主程序的下一条指令语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子程序中，使用定时器的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9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9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在子程序中再调用其他子程序称为子程序嵌套，嵌套总数可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6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跳转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使用相同的标号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437360" cy="5638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047760" y="60840"/>
            <a:ext cx="3297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5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子程序调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89680" y="762120"/>
            <a:ext cx="3902040" cy="3205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98480" y="64904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子程序调用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7493"/>
                </a:moveTo>
                <a:lnTo>
                  <a:pt x="11601" y="7493"/>
                </a:lnTo>
                <a:lnTo>
                  <a:pt x="11601" y="12828"/>
                </a:lnTo>
                <a:cubicBezTo>
                  <a:pt x="11601" y="13751"/>
                  <a:pt x="12401" y="14482"/>
                  <a:pt x="13437" y="14482"/>
                </a:cubicBezTo>
                <a:lnTo>
                  <a:pt x="15100" y="14482"/>
                </a:lnTo>
                <a:cubicBezTo>
                  <a:pt x="16135" y="14482"/>
                  <a:pt x="16936" y="13751"/>
                  <a:pt x="16936" y="12828"/>
                </a:cubicBezTo>
                <a:lnTo>
                  <a:pt x="16936" y="7493"/>
                </a:lnTo>
                <a:lnTo>
                  <a:pt x="15100" y="7493"/>
                </a:lnTo>
                <a:lnTo>
                  <a:pt x="18607" y="3985"/>
                </a:lnTo>
                <a:lnTo>
                  <a:pt x="22280" y="7493"/>
                </a:lnTo>
                <a:lnTo>
                  <a:pt x="20444" y="7493"/>
                </a:lnTo>
                <a:lnTo>
                  <a:pt x="20444" y="12828"/>
                </a:lnTo>
                <a:cubicBezTo>
                  <a:pt x="20444" y="15596"/>
                  <a:pt x="17867" y="18155"/>
                  <a:pt x="15100" y="18155"/>
                </a:cubicBezTo>
                <a:lnTo>
                  <a:pt x="13437" y="18155"/>
                </a:lnTo>
                <a:cubicBezTo>
                  <a:pt x="10669" y="18155"/>
                  <a:pt x="8093" y="15596"/>
                  <a:pt x="80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4465440"/>
            <a:ext cx="337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功能是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别接通时，将相应的数据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调用子程序；在子程序中，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的数据相加，运算结果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数据控制输出字元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4114800"/>
          <a:ext cx="9145440" cy="1403280"/>
        </p:xfrm>
        <a:graphic>
          <a:graphicData uri="http://schemas.openxmlformats.org/drawingml/2006/table">
            <a:tbl>
              <a:tblPr/>
              <a:tblGrid>
                <a:gridCol w="1324080"/>
                <a:gridCol w="2209680"/>
                <a:gridCol w="2054160"/>
                <a:gridCol w="1933560"/>
                <a:gridCol w="162396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用（可用程序变更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专用（不可变更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殊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变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址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7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8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7-V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7-Z0</a:t>
                      </a:r>
                      <a:br>
                        <a:rPr sz="1600"/>
                      </a:b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968040" y="518040"/>
            <a:ext cx="26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数据寄存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153640" cy="2266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79240" y="3245760"/>
            <a:ext cx="25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3733200"/>
            <a:ext cx="41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件编号与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6840" y="5623560"/>
            <a:ext cx="58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寄存器所能表示的有符号数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−32 76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 7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9560" y="6247440"/>
            <a:ext cx="745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寄存器所能表示的有符号数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−2 147 483 6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 147 483 6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18040" y="2275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1295280"/>
          <a:ext cx="9144000" cy="1369800"/>
        </p:xfrm>
        <a:graphic>
          <a:graphicData uri="http://schemas.openxmlformats.org/drawingml/2006/table">
            <a:tbl>
              <a:tblPr/>
              <a:tblGrid>
                <a:gridCol w="1523880"/>
                <a:gridCol w="2057400"/>
                <a:gridCol w="4327560"/>
                <a:gridCol w="123516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序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循环开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8   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循环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9    N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2452320" y="761040"/>
            <a:ext cx="3647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FOR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658680"/>
            <a:ext cx="37339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．循环指令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必须成对出现，缺一不可。位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的程序称为循环体，在一个扫描周期内，循环体反复被执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操作数用于指定循环的次数，只有执行完循环次数后，才执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下一条指令语句。循环指令的结构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，图中指定循环次数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3434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6705720" cy="5369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38000" y="183600"/>
            <a:ext cx="52138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循环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NEXT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+1+2+3+…+1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和，并将和存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用循环指令编写的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为循环增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81760" y="60951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指令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694480" cy="6324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248520" y="517680"/>
            <a:ext cx="22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+1+2+3+…+1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和，并将和存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29480" y="60951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嵌套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773280"/>
            <a:ext cx="6705360" cy="6008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924640" y="13716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Arial"/>
              </a:rPr>
              <a:t>循环指令的脉冲执行方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550188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指令的脉冲执行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1736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本例中，每按下一次按钮接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执行一次循环指令，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存储的数据就增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665800" y="60840"/>
            <a:ext cx="2764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变址寄存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248520" cy="5522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38560" y="62478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址操作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3800" y="137160"/>
            <a:ext cx="439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循环、变址和子程序调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82224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数据分别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求它们的代数和，将运算结果存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并用此结果控制输出位组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计算控制端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端，操作程序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7909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6629400" cy="5948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659320" y="632376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、变址、子程序调用指令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2468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736000" y="6847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7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比较指令的应用与时钟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9440" y="21632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比较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3352680"/>
          <a:ext cx="9144000" cy="2556000"/>
        </p:xfrm>
        <a:graphic>
          <a:graphicData uri="http://schemas.openxmlformats.org/drawingml/2006/table">
            <a:tbl>
              <a:tblPr/>
              <a:tblGrid>
                <a:gridCol w="914400"/>
                <a:gridCol w="1590840"/>
                <a:gridCol w="2028600"/>
                <a:gridCol w="2028960"/>
                <a:gridCol w="258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N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条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2729520" y="2894760"/>
            <a:ext cx="36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数据接点比较指令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4324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指令是根据运算比较结果，去控制相应的对象。比较类指令包括三种，即接点比较指令，组件比较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区间比较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228600"/>
          <a:ext cx="9144000" cy="4746600"/>
        </p:xfrm>
        <a:graphic>
          <a:graphicData uri="http://schemas.openxmlformats.org/drawingml/2006/table">
            <a:tbl>
              <a:tblPr/>
              <a:tblGrid>
                <a:gridCol w="914400"/>
                <a:gridCol w="1590840"/>
                <a:gridCol w="2028600"/>
                <a:gridCol w="2028960"/>
                <a:gridCol w="258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N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条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95280" y="5105520"/>
            <a:ext cx="5943600" cy="879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177720" y="624780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点相等比较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0" y="2743200"/>
          <a:ext cx="9144000" cy="2465280"/>
        </p:xfrm>
        <a:graphic>
          <a:graphicData uri="http://schemas.openxmlformats.org/drawingml/2006/table">
            <a:tbl>
              <a:tblPr/>
              <a:tblGrid>
                <a:gridCol w="1216080"/>
                <a:gridCol w="797040"/>
                <a:gridCol w="799920"/>
                <a:gridCol w="1224000"/>
                <a:gridCol w="1225440"/>
                <a:gridCol w="1225800"/>
                <a:gridCol w="2655720"/>
              </a:tblGrid>
              <a:tr h="623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 作 方 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作方式选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按钮作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动作过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手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80880" y="472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台设备有两台电动机，受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；设手动、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挡工作方式；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端，其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工作方式选择开关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过载保护。在手动方式中采用点动操作，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挡自动方式中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启动后分别延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再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用接点比较指令编写程序和分析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解】 根据题意列出控制关系，如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2160" y="228528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730040"/>
            <a:ext cx="84582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功能指令的使用说明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X</a:t>
            </a:r>
            <a:r>
              <a:rPr b="0" lang="zh-CN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列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功能指令编号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NC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NC24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实际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功能指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功能指令分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。功能指令默认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，加上前缀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，例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O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功能指令默认是连续执行方式，加上后缀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为脉冲执行方式，例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多数功能指令有操作数。执行指令后其内容不变的称为源操作数，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表示。被刷新内容的称为目标操作数，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881440" y="33814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50080" y="61560"/>
            <a:ext cx="2967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数据传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28960" y="6087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1440" y="1066680"/>
          <a:ext cx="9145440" cy="1249560"/>
        </p:xfrm>
        <a:graphic>
          <a:graphicData uri="http://schemas.openxmlformats.org/drawingml/2006/table">
            <a:tbl>
              <a:tblPr/>
              <a:tblGrid>
                <a:gridCol w="1625400"/>
                <a:gridCol w="1306440"/>
                <a:gridCol w="1440000"/>
                <a:gridCol w="477360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源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脉冲型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目标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5790960" cy="1930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96160" y="373320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功能指令格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461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028680" y="64904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717640" y="137880"/>
            <a:ext cx="294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组件比较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720" y="685080"/>
            <a:ext cx="32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40" y="1143000"/>
          <a:ext cx="9142560" cy="1004760"/>
        </p:xfrm>
        <a:graphic>
          <a:graphicData uri="http://schemas.openxmlformats.org/drawingml/2006/table">
            <a:tbl>
              <a:tblPr/>
              <a:tblGrid>
                <a:gridCol w="1060560"/>
                <a:gridCol w="1411200"/>
                <a:gridCol w="1409760"/>
                <a:gridCol w="52610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指 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496040" cy="3436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599440" y="2422800"/>
            <a:ext cx="2594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组件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31240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位的规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0520" y="6171480"/>
            <a:ext cx="27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件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0" y="4572000"/>
          <a:ext cx="9144000" cy="16747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 件 规 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光电信号输入控制字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K1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光电转换数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228600" y="9597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的传送带输送大、中、小三种规格的工件，用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光电传感器判别工件规格，然后启动分别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相应操作机构；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光电传感器用于复位操作机构。用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写工件规格判别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29320" y="198720"/>
            <a:ext cx="24422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组件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943600" cy="1819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076640" y="365688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8480" y="4114080"/>
            <a:ext cx="37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件规格与光电信号转换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81680" cy="60706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38560" y="63237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件规格判别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793960" y="60840"/>
            <a:ext cx="288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区间比较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360" y="60876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990720"/>
          <a:ext cx="9144000" cy="1004760"/>
        </p:xfrm>
        <a:graphic>
          <a:graphicData uri="http://schemas.openxmlformats.org/drawingml/2006/table">
            <a:tbl>
              <a:tblPr/>
              <a:tblGrid>
                <a:gridCol w="719280"/>
                <a:gridCol w="1338120"/>
                <a:gridCol w="1560600"/>
                <a:gridCol w="552600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指 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091160" y="2102760"/>
            <a:ext cx="4379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区间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区间比较指令的格式为“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CP  S1  S2  S3  D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4572000" cy="3513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370160" y="63237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347508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位的规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 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500 &l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62880" y="274680"/>
            <a:ext cx="23857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区间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8989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用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的传送带输送工件，数量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。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光电传感器对工件进行计数。当计件数量小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指示灯常亮；当计件数量等于或大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上时，指示灯闪烁；当计件数量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传送带停机，同时指示灯熄灭。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并用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写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105520" cy="1238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515280" y="266616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5257800" cy="3440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546520" y="6171480"/>
            <a:ext cx="29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的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3440" y="0"/>
            <a:ext cx="611964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19200" y="63237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33920" y="61560"/>
            <a:ext cx="311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马路照明灯时钟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80560" y="579600"/>
            <a:ext cx="3583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时钟专用的特殊辅助继电器和特殊数据寄存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7040" y="99000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辅助继电器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40720" y="350460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数据寄存器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0" y="1371600"/>
          <a:ext cx="9144000" cy="2009880"/>
        </p:xfrm>
        <a:graphic>
          <a:graphicData uri="http://schemas.openxmlformats.org/drawingml/2006/table">
            <a:tbl>
              <a:tblPr/>
              <a:tblGrid>
                <a:gridCol w="3032280"/>
                <a:gridCol w="3033720"/>
                <a:gridCol w="307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殊辅助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功    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停止和改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停止，改写时钟数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显示停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显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秒复位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升沿时修正秒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检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时为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错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写时间数据超出范围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0" y="3886200"/>
          <a:ext cx="9144000" cy="26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殊数据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范   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历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周日～周六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98160" y="122400"/>
            <a:ext cx="1450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设定时钟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13360" cy="60958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195240" y="60951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定时钟信息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305520" y="258480"/>
            <a:ext cx="2931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数据传送指令应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065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设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盏指示灯，控制要求是：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全部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奇数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偶数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全部灯灭。试设计电路并用数据传送指令编写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32200" y="1980360"/>
            <a:ext cx="25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7848360" cy="318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25000" y="60192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553080" y="136440"/>
            <a:ext cx="2192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马路照明灯时钟控制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87200" y="152280"/>
            <a:ext cx="6099480" cy="6705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53080" y="50288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马路照明灯时钟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154008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马路照明灯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控制一半。每年夏季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）每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次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灯全部开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开一半灯。其余季节每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次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灯全部开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开一半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84320" y="1512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移位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2000" y="532800"/>
            <a:ext cx="29800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左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72120" y="99000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371600"/>
          <a:ext cx="9144000" cy="1004760"/>
        </p:xfrm>
        <a:graphic>
          <a:graphicData uri="http://schemas.openxmlformats.org/drawingml/2006/table">
            <a:tbl>
              <a:tblPr/>
              <a:tblGrid>
                <a:gridCol w="1057320"/>
                <a:gridCol w="1057320"/>
                <a:gridCol w="1171440"/>
                <a:gridCol w="58579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组件中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/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04920" y="2590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循环前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13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执行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P  D0  K4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后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3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进位标志位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执行过程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458200" cy="2616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833560" y="6095160"/>
            <a:ext cx="29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920" y="2736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循环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循环周期中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572000" cy="2925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768280" y="26661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左移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13720" y="388548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84582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98520" y="137880"/>
            <a:ext cx="294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右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29320" y="761400"/>
            <a:ext cx="32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143000"/>
          <a:ext cx="9144000" cy="1004760"/>
        </p:xfrm>
        <a:graphic>
          <a:graphicData uri="http://schemas.openxmlformats.org/drawingml/2006/table">
            <a:tbl>
              <a:tblPr/>
              <a:tblGrid>
                <a:gridCol w="831960"/>
                <a:gridCol w="1055520"/>
                <a:gridCol w="1170000"/>
                <a:gridCol w="60865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右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组件中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/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772400" cy="2403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604960" y="510480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28600" y="273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循环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循环周期中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4191120" cy="26812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225480" y="29710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右移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61080" y="380916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87631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3110040"/>
          <a:ext cx="9144000" cy="1919160"/>
        </p:xfrm>
        <a:graphic>
          <a:graphicData uri="http://schemas.openxmlformats.org/drawingml/2006/table">
            <a:tbl>
              <a:tblPr/>
              <a:tblGrid>
                <a:gridCol w="1382760"/>
                <a:gridCol w="1400040"/>
                <a:gridCol w="1847880"/>
                <a:gridCol w="2108160"/>
                <a:gridCol w="240516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304920" y="6084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利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现流水灯控制。某灯光招牌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灯，要求按下启动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灯以正、反序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间隔轮流点亮；按下停止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停止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由于输出动作频繁，应选择晶体管或晶闸管输出类型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流水灯控制需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入端口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出端口。输入、输出端口的分配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17920" y="25902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35800" cy="6705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38920" y="601920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731680" y="137160"/>
            <a:ext cx="2850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左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F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24400" y="913680"/>
            <a:ext cx="32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1371600"/>
          <a:ext cx="9144000" cy="1004760"/>
        </p:xfrm>
        <a:graphic>
          <a:graphicData uri="http://schemas.openxmlformats.org/drawingml/2006/table">
            <a:tbl>
              <a:tblPr/>
              <a:tblGrid>
                <a:gridCol w="898560"/>
                <a:gridCol w="1062000"/>
                <a:gridCol w="1181160"/>
                <a:gridCol w="2841480"/>
                <a:gridCol w="1055880"/>
                <a:gridCol w="21049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T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≤n2≤n1≤1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80880" y="3229560"/>
            <a:ext cx="84582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左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移位的源操作数的最低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被移位的目标操作数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目标操作数个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源操作数个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左移就是源操作数从目标操作数的低位移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各位向高位方向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中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溢出。源操作数各位状态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指令的连续执行方式中，每一个扫描周期都会移位一次。在实际控制中，常采用脉冲执行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084760" y="380160"/>
            <a:ext cx="39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示例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5638680" cy="2371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833200" y="3351960"/>
            <a:ext cx="30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7467840" cy="1971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711160" y="6247800"/>
            <a:ext cx="29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288080" y="198720"/>
            <a:ext cx="23461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左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897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初始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求数次执行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13720" y="3123360"/>
            <a:ext cx="37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763120" cy="2500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28600" y="21164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第一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二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依次类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643440" y="6019200"/>
            <a:ext cx="19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762120"/>
          <a:ext cx="9144000" cy="2009520"/>
        </p:xfrm>
        <a:graphic>
          <a:graphicData uri="http://schemas.openxmlformats.org/drawingml/2006/table">
            <a:tbl>
              <a:tblPr/>
              <a:tblGrid>
                <a:gridCol w="1222200"/>
                <a:gridCol w="828720"/>
                <a:gridCol w="831960"/>
                <a:gridCol w="828720"/>
                <a:gridCol w="831960"/>
                <a:gridCol w="828720"/>
                <a:gridCol w="828360"/>
                <a:gridCol w="831960"/>
                <a:gridCol w="828720"/>
                <a:gridCol w="12826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位组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2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2572560" y="3042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关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63868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960640" y="518040"/>
            <a:ext cx="288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右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F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00360" y="13089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0" y="1800360"/>
          <a:ext cx="9144000" cy="1095120"/>
        </p:xfrm>
        <a:graphic>
          <a:graphicData uri="http://schemas.openxmlformats.org/drawingml/2006/table">
            <a:tbl>
              <a:tblPr/>
              <a:tblGrid>
                <a:gridCol w="914400"/>
                <a:gridCol w="1201680"/>
                <a:gridCol w="1174680"/>
                <a:gridCol w="2500560"/>
                <a:gridCol w="1143000"/>
                <a:gridCol w="2209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≤n2≤n1≤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304920" y="3305880"/>
            <a:ext cx="85341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右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移位的源操作数的最低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被移位的目标操作数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目标操作数个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源操作数个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右移就是源操作数从目标操作数的高位移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各位向低位方向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中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溢出。源操作数各位状态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856160" y="456120"/>
            <a:ext cx="39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示例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4952880" cy="2082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757240" y="3123360"/>
            <a:ext cx="30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87480" y="6247800"/>
            <a:ext cx="29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80769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920" y="8370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初始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求数次执行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07200" y="212760"/>
            <a:ext cx="2388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右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0563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在未执行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前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一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二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B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依次类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89680" y="3047400"/>
            <a:ext cx="37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8839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7610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某台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为了减小电动机同时启动对电源的影响，利用位移指令实现间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顺序通电控制。按下停止按钮时，同时停止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1675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需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入端口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出端口。输入、输出端口的分配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60720" y="26805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0" y="3263760"/>
          <a:ext cx="9144000" cy="14605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7680"/>
                <a:gridCol w="2041560"/>
                <a:gridCol w="2043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接触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01320" y="6171480"/>
            <a:ext cx="25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10280" cy="5680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80010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294360" y="4561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9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数码显示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10840" y="10202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七段数码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22960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497760" y="571428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段数码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72600" y="1951200"/>
            <a:ext cx="2059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七段数码管与显示代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440" y="1752480"/>
          <a:ext cx="9142560" cy="4019400"/>
        </p:xfrm>
        <a:graphic>
          <a:graphicData uri="http://schemas.openxmlformats.org/drawingml/2006/table">
            <a:tbl>
              <a:tblPr/>
              <a:tblGrid>
                <a:gridCol w="1292400"/>
                <a:gridCol w="1303200"/>
                <a:gridCol w="736560"/>
                <a:gridCol w="738360"/>
                <a:gridCol w="738000"/>
                <a:gridCol w="736920"/>
                <a:gridCol w="738000"/>
                <a:gridCol w="738360"/>
                <a:gridCol w="738000"/>
                <a:gridCol w="138276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进制数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七段显示电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六进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显示代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二进制表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3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4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7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2562840" y="1294560"/>
            <a:ext cx="44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字与七段显示电平和显示代码逻辑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67680" y="351000"/>
            <a:ext cx="16027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数码管应用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12178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设计一个用数码显示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智力竞赛抢答器。某参赛选手抢先按下自己的按钮时，则显示该选手的号码，同时联锁其他参赛选手的输入信号无效。主持人按复位按钮清除显示数码后，比赛继续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5241960"/>
            <a:ext cx="18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智力竞赛抢答器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58672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553080" y="380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智力竞赛抢答器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25520" y="0"/>
            <a:ext cx="446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700360" y="1232640"/>
            <a:ext cx="33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46240" y="563040"/>
            <a:ext cx="3135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七段编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-1440" y="1724040"/>
          <a:ext cx="9146880" cy="1095480"/>
        </p:xfrm>
        <a:graphic>
          <a:graphicData uri="http://schemas.openxmlformats.org/drawingml/2006/table">
            <a:tbl>
              <a:tblPr/>
              <a:tblGrid>
                <a:gridCol w="777600"/>
                <a:gridCol w="1295640"/>
                <a:gridCol w="1179360"/>
                <a:gridCol w="58942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七段编码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28600" y="350388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七段编码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要编码的源操作组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七段编码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二进制数编码，如果源操作组件大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只对最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编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编码范围为十六进制数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98520" y="213120"/>
            <a:ext cx="3067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区间复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6680" y="100404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0" y="1539720"/>
          <a:ext cx="9142560" cy="669960"/>
        </p:xfrm>
        <a:graphic>
          <a:graphicData uri="http://schemas.openxmlformats.org/drawingml/2006/table">
            <a:tbl>
              <a:tblPr/>
              <a:tblGrid>
                <a:gridCol w="1251000"/>
                <a:gridCol w="1970280"/>
                <a:gridCol w="2960640"/>
                <a:gridCol w="29606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区间复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数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40   ZR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489040"/>
            <a:ext cx="6400800" cy="2006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4880" y="4814280"/>
            <a:ext cx="23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区间复位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5547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当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RST  Y0  Y3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时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部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05160" y="670680"/>
            <a:ext cx="30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57240" y="4647600"/>
            <a:ext cx="31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段编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4952880" cy="3119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510444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的那个周期，对数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七段编码指令，并将编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6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入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110 1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的那个周期，对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七段编码指令，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0 01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840040" y="1172880"/>
            <a:ext cx="3041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3  BC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2132640"/>
            <a:ext cx="853452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编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，十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二进制形式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1 0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对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应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码，则得到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七段显示码；对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应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码，则得到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七段显示码，显示的数码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十六进制数，而不是十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然，要想显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就要先将二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1 0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成反映十进制进位关系（即逢十进一）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10 0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然后对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别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出七段显示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种用二进制形式反映十进制进位关系的代码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，其中最常用的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42440" y="38016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、十六进制、二进制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码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0" y="838080"/>
          <a:ext cx="9144000" cy="5694480"/>
        </p:xfrm>
        <a:graphic>
          <a:graphicData uri="http://schemas.openxmlformats.org/drawingml/2006/table">
            <a:tbl>
              <a:tblPr/>
              <a:tblGrid>
                <a:gridCol w="2281320"/>
                <a:gridCol w="2287440"/>
                <a:gridCol w="2286000"/>
                <a:gridCol w="2289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 进 制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六进制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二 进 制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8421BC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242440" y="38016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、十六进制、二进制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码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0" y="838080"/>
          <a:ext cx="9144000" cy="2344680"/>
        </p:xfrm>
        <a:graphic>
          <a:graphicData uri="http://schemas.openxmlformats.org/drawingml/2006/table">
            <a:tbl>
              <a:tblPr/>
              <a:tblGrid>
                <a:gridCol w="2281320"/>
                <a:gridCol w="2287440"/>
                <a:gridCol w="2286000"/>
                <a:gridCol w="2289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 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0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 0101 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304920" y="38548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表中可以看出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从低位起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为一组，高位不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每组表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十进制数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与二进制数的形式相同，但概念完全不同，虽然在一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中，每位的进位也是二进制，但在组与组之间的进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则是十进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04920" y="456480"/>
            <a:ext cx="86104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码转换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想正确地显示十进制数码，必须先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指令将二进制形式的数据转换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，再利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成七段显示码，最后输出控制数码管发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43520" y="17517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440" y="2209680"/>
          <a:ext cx="9142560" cy="1095480"/>
        </p:xfrm>
        <a:graphic>
          <a:graphicData uri="http://schemas.openxmlformats.org/drawingml/2006/table">
            <a:tbl>
              <a:tblPr/>
              <a:tblGrid>
                <a:gridCol w="1121040"/>
                <a:gridCol w="1296720"/>
                <a:gridCol w="1181160"/>
                <a:gridCol w="55436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BC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码转换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304920" y="390096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指令的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要转换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码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将源操作数的数据转换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存入目标操作数中。在目标操作数中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表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十进制数，从低至高分别表示个位、十位、百位、千位……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表示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 99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表示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9 999 99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0880" y="4561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先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50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然后将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50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存入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执行过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86040" y="2666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2  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1360440"/>
            <a:ext cx="4952880" cy="2282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819160" y="62478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3  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2388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287160" y="13788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多位数码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807480"/>
            <a:ext cx="8686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停车场最多可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辆车，用两位数码管显示停车数量。用出入传感器检测进出车辆数，每进一辆车停车数量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每出一辆车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场内停车数量小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入口处绿灯亮，允许入场；等于和大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绿灯闪烁，提醒待进车辆注意将满场；等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红灯亮，禁止车辆入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解】 停车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72400" y="4434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车场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52280" y="2155680"/>
            <a:ext cx="74678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2485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971080" y="63237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车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483360" y="59436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停车场输入、输出器件位置示意图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6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0566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59520" cy="1712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706120" y="3428280"/>
            <a:ext cx="36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66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停车场输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出设备位置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72400" y="57150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125880" y="281952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03640" y="304200"/>
            <a:ext cx="525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5.1.5  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实习操作：电动机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Y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-△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降压启动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31840" y="5804640"/>
            <a:ext cx="27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  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降压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0080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5T02:46:4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